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6076-87F0-4C64-BF49-AE8EC7FE6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8455-A27D-4024-805A-A66786DC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6CFD-3B9D-4752-88F9-657B56CB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42A2-03BE-4406-B6BA-2C45B0FD7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B75A-8F16-431C-B9B4-FCD7BB2B4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54B-B78A-4A3E-9A93-4B8917FF5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CBB4-9189-4967-8F8C-DE1FDA1E2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2F6CD-4B78-4613-9806-6D8DFBD7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A735-0F36-4A89-8AB0-80451F792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B2A5F-E74F-48FF-8775-91B4398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77E4-4D06-413E-86E0-6A8186C4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BDAC-A90B-4CD5-B2B8-89C9539DE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AC13E-912B-4CEE-AC8F-651F54045C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191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hammer\Local Settings\Temporary Internet Files\Content.IE5\0LZOSS5O\MCj00846080000[1].wm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533520"/>
            <a:ext cx="8350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1800" y="609480"/>
            <a:ext cx="3200400" cy="4343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6"/>
          <p:cNvSpPr/>
          <p:nvPr/>
        </p:nvSpPr>
        <p:spPr>
          <a:xfrm rot="5400000">
            <a:off x="-34308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apezoid 7"/>
          <p:cNvSpPr/>
          <p:nvPr/>
        </p:nvSpPr>
        <p:spPr>
          <a:xfrm rot="16200000">
            <a:off x="438120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28600"/>
            <a:ext cx="1447920" cy="510552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696080" y="228600"/>
            <a:ext cx="1447920" cy="510552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>
            <a:hlinkClick r:id="rId2" action="ppaction://hlinksldjump"/>
          </p:cNvPr>
          <p:cNvSpPr/>
          <p:nvPr/>
        </p:nvSpPr>
        <p:spPr>
          <a:xfrm>
            <a:off x="0" y="1143000"/>
            <a:ext cx="1143000" cy="41911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>
            <a:hlinkClick r:id="rId3" action="ppaction://hlinksldjump"/>
          </p:cNvPr>
          <p:cNvSpPr/>
          <p:nvPr/>
        </p:nvSpPr>
        <p:spPr>
          <a:xfrm>
            <a:off x="8001000" y="1143000"/>
            <a:ext cx="1143000" cy="41911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>
            <a:hlinkClick r:id="rId4" action="ppaction://hlinksldjump"/>
          </p:cNvPr>
          <p:cNvSpPr/>
          <p:nvPr/>
        </p:nvSpPr>
        <p:spPr>
          <a:xfrm>
            <a:off x="3657600" y="1143000"/>
            <a:ext cx="1981080" cy="380988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rapezoid 20">
            <a:hlinkClick r:id="rId5" action="ppaction://hlinksldjump"/>
          </p:cNvPr>
          <p:cNvSpPr/>
          <p:nvPr/>
        </p:nvSpPr>
        <p:spPr>
          <a:xfrm rot="5400000">
            <a:off x="19008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rapezoid 21">
            <a:hlinkClick r:id="rId6" action="ppaction://hlinksldjump"/>
          </p:cNvPr>
          <p:cNvSpPr/>
          <p:nvPr/>
        </p:nvSpPr>
        <p:spPr>
          <a:xfrm rot="16200000">
            <a:off x="491472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175248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8077320" y="32767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733920" y="29718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www.exitrealtyhomeshow.com/images/exit_sign_red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6094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8">
            <a:hlinkClick r:id="" action="ppaction://hlinkshowjump?jump=nextslide"/>
          </p:cNvPr>
          <p:cNvSpPr/>
          <p:nvPr/>
        </p:nvSpPr>
        <p:spPr>
          <a:xfrm>
            <a:off x="0" y="1905120"/>
            <a:ext cx="11430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1828800" y="1905120"/>
            <a:ext cx="838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6553080" y="1828800"/>
            <a:ext cx="838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8153280" y="1828800"/>
            <a:ext cx="9907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3886200" y="15238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09680" y="304920"/>
            <a:ext cx="4114800" cy="4952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52:05Z</dcterms:created>
  <dc:creator>dhammer</dc:creator>
  <dc:description/>
  <dc:language>en-US</dc:language>
  <cp:lastModifiedBy>Sara</cp:lastModifiedBy>
  <dcterms:modified xsi:type="dcterms:W3CDTF">2012-03-19T01:45:12Z</dcterms:modified>
  <cp:revision>30</cp:revision>
  <dc:subject/>
  <dc:title>Slide 1</dc:title>
</cp:coreProperties>
</file>